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A553-481C-463E-84FB-0865709B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95F-93EE-47B6-B5A1-C6EC911D9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E87D92-262C-41F2-B398-BA924B48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9E931A-6A18-4F07-92F0-B23D8CD5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F84EBE-2439-49FE-B7EA-F30E2524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537415-3E86-4B48-9C1A-BAC43D38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FF471B-3A9C-49AA-84D0-879AEF4C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4CC3AD-5E90-486E-89A8-C0BF8E23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04578-71F8-4668-8CE6-77D6EA95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8FC52B-1391-401E-B4DC-39EF71BE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48E902-2F17-4091-9325-72C5EB41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14E3-35EF-42B8-954B-C838BEA8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01C4-D342-4744-9FD3-270AAAD3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A468-EB50-48E0-8FC5-1D69A8AE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3F1D-0768-40FB-A55F-412C07F8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701373-34EC-40CA-9191-DDC4DB319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72AF60-3290-4C6F-B1C7-9F41ED06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8EF851-3CBD-44A2-ACCE-81546EBA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DE3-B2F6-44F6-B66B-232028A4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9B521A-2FF2-4415-AAA3-F7ECB01D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CC8C20-6DA5-42FD-A801-37EEB7E5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C1EA23-BF06-4F60-8BDE-8A1E0DBC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21281F-0EA9-4DE7-8641-B6CCC533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4F48C6-3B0F-4603-922A-094B1D31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D75DF4-7ACD-47D4-9A06-3A486A8A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944EE3-B1BD-4637-82D7-12808FE2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7A6094-2B84-4796-AE82-00560D73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3CF266-7088-4EFB-AAE8-AA4A3F52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3139B4-90BF-4E46-88AC-8CCC9C70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AC92-97E4-4EEF-85C8-80FFE209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446F30-94CE-4B03-9E35-8BB5FF74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0F37C0-FCD2-4FD9-9B0C-EA346A65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808261-2EFF-4337-9229-13835F2F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5E6A7A-E9C3-4D1E-9253-805071C7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729AA4-5737-4065-89B6-060FFA4CE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A1D092-429E-4AC5-96D4-83EE3141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C5DA8D-E2E9-43CD-8559-5F16D9CB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C73335-5054-4EDC-8454-BE0DEA72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BF7F94-783E-4B80-811F-65E98AB7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D76102-8518-413A-B674-3E91EF79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7543-3E29-4622-9A28-4B674F60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021184-F6AA-4F0F-AEE4-2FD53DD8A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27FA73-7B16-40A2-88AB-FAE2B9C5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C04F3C-EAB6-4EC4-8EE8-8750E25B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7E355B-3E18-4807-BFA7-AFE50270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C6677A-F48F-44BF-A83C-B2244E35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F1E253-A5E2-452C-87EC-088A0440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00418E-027C-4C51-B885-F294B74C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A5E53B-53EA-46F8-9CA2-336CACF4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414092-A2B4-4367-AD3F-17485A4B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6C7033-ADC3-4BAB-9A77-E808175A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7F75-9B1F-45F7-83D1-ECC8DE46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D8B602-F368-463F-BBD2-1F67456B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7D4001-57BD-4ED0-A4AC-74F1BDCB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B13026-60D6-4989-A711-13F242F8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C0B19B-7B1E-4684-B3BB-ADBC17A1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EC4D57-9E3D-4ADB-91F4-69401A8B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E7AD1C-F2D8-470F-A97C-515A205A2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7C9895-981E-48A2-B4FA-DBF05E87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7838C8-9494-40E2-A33A-2CF25622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ED3CEA-9C2F-4149-BA59-C1DA0572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09E01E-945F-4E22-B3F3-9B6C6DB7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A721-B2A0-439A-BFF8-4401FD0D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22475D-4929-4AB7-ABA3-4FABBADF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9BF182-F6E2-462A-9187-B212D901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32F9CB-6477-4331-9B47-C6BADD62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8758F3-6C67-4396-947A-8B86C289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6F16AA-4200-46C2-AE4E-0A666D4EF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907A00-C94B-49E5-B0BA-6C09AA17E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634BF7-68F5-4D1B-879C-24CC865C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B10A2A-CDC3-419D-ADE1-09023272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45E9CC-455D-4C29-8A65-8913B9F9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7509CC-ECD0-440D-9058-E1E2EF9D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43FB-3CA6-4D0D-81D3-A3392FEB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4627D6-E5BC-4CC2-8416-1E99959C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6D4442-B652-49A6-AEFA-14C88507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C1974B-1F50-4BCA-B06A-F64485CE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0969B3-0501-4964-9155-10D7924E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43B0A8-A081-4A20-BDC6-6BBD2088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FDCA27-1F58-4544-80E1-B2219627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F4C4F1-3FF0-4287-8488-08C993CD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5FB697-188D-4E22-96EF-87767F6A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0B6B5-7BF5-4503-93D2-87170F69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2B6FB4-3149-48A3-9F4D-BDAA35EC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361983-5FB8-4C27-AA0F-E909392DD2BD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74CFC7-4006-428B-A1AC-EF6DA74793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CFD5E-5DA9-4B2A-8D72-CDFF1D1F1CC9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76F93F-21F2-43D5-958F-414CFC72EE07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A6E15C-4EF5-4E98-8A8D-02F6AB3A4D13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D77E82-643B-4F2A-88E0-E72CF4159C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B73B4-8CB5-4D1E-93FE-FB4AF3081467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6899A-61C7-4B44-9E4F-89C9686CDB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1BA8E-2F97-47CA-B5B0-E3767E62D1CF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443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AFAA83-8CC9-41F8-86AE-38989E6F7BB4}" type="slidenum">
              <a:rPr b="0" lang="en-US" sz="1200" spc="-1" strike="noStrike">
                <a:solidFill>
                  <a:srgbClr val="19443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9320C-44E3-42DB-8BD1-5E908D316622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8A386-C58A-4327-A7FD-243DCEC86C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6ACA53-48FB-4CC5-8B9E-944A139D1B17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94431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F2BDB-81F7-4427-B805-6403D59EF586}" type="slidenum">
              <a:rPr b="0" lang="en-US" sz="1200" spc="-1" strike="noStrike">
                <a:solidFill>
                  <a:srgbClr val="19443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F6831B-E11A-4EBB-A250-BC3015D018B7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DD98D-1EB4-47B4-BD3E-8C812360565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Arial"/>
              </a:rPr>
              <a:t>WHICH TYPE OF AGRICULTURE?</a:t>
            </a:r>
            <a:endParaRPr b="0" lang="en-US" sz="4800" spc="-1" strike="noStrike">
              <a:solidFill>
                <a:srgbClr val="194431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0880" y="3276360"/>
            <a:ext cx="33530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USTRI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181120" y="327636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USTAINAB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21:56:38Z</dcterms:created>
  <dc:creator>Keith or Sherri Holmgren</dc:creator>
  <dc:description/>
  <dc:language>en-US</dc:language>
  <cp:lastModifiedBy>Keith or Sherri Holmgren</cp:lastModifiedBy>
  <dcterms:modified xsi:type="dcterms:W3CDTF">2010-11-02T22:01:00Z</dcterms:modified>
  <cp:revision>1</cp:revision>
  <dc:subject/>
  <dc:title>WHICH TYPE OF AGRICULTURE?</dc:title>
</cp:coreProperties>
</file>